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-360" y="8650080"/>
            <a:ext cx="29718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884400" y="8650080"/>
            <a:ext cx="29718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62516-28B2-4AED-A73C-37B98AE84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884400" y="8650080"/>
            <a:ext cx="29718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EC5F5-5B59-4D40-B644-BFF40C5C2F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-360" y="8650080"/>
            <a:ext cx="29718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347840" y="911160"/>
            <a:ext cx="4164120" cy="31226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045800" y="4335480"/>
            <a:ext cx="4770360" cy="346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884400" y="8650080"/>
            <a:ext cx="29718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5F7BA-7900-43E3-A7F2-F87C198757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-360" y="8650080"/>
            <a:ext cx="29718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347840" y="911160"/>
            <a:ext cx="4164120" cy="31226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1045800" y="4335480"/>
            <a:ext cx="4770360" cy="346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884400" y="8650080"/>
            <a:ext cx="29718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7DAE6-C732-41E8-8A78-4B07BF5B2E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-360" y="8650080"/>
            <a:ext cx="29718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347840" y="911160"/>
            <a:ext cx="4164120" cy="31226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1045800" y="4335480"/>
            <a:ext cx="4770360" cy="346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view jobs.   Scroll to the bottom of the list -  Newest ticket will be at the bottom of the list. Click on ticket to open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s made in the top white portion – save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ts added in the bottom gray area – add ev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A393-C81A-440F-BF58-149377348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B0BB-084D-4AB4-B331-3385A6BCB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9CE8-D817-4E55-BC40-1178A61DE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7B94-8A37-4F73-8F9B-8E826338D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4FA44-53C3-4D29-83F6-684ED68F5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88ABA-971B-4979-AE37-3968A69B6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47BB8-0F13-497C-B38F-405E31BDE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9CF38-A359-460B-B94C-FA3447C7F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ECEBD-1731-4B10-BB19-F2A143DDB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26C94-2602-4AFC-AEB6-6625B4A75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0F259-9721-4C2B-9E61-7EBDCD86F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E145-A7AB-4B3C-BC3D-B56D39AE4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3BDD8-3CB6-4179-B785-6CA780EE7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E537F-1C20-4A4B-9A48-D4E9CF9C9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CEE8F-F6E1-4EA3-A5D1-87FBC4C18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81FB9-95DC-46A5-83D7-9E09FED29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82C0B-CBF7-444F-8796-1790BA0BC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DE52-4508-470A-8A28-07426EE2C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EC60-869B-489E-B9CA-3FD0297D4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5699-BF7A-40CB-9C97-BF3FB2A84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2857-277A-4CC6-8307-EB715DA57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7015-F260-4B8D-A59C-96E0B9616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CAFD-DDFF-45AF-89A2-12FE7EECF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B92C-E176-48FB-B383-85CD7E810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8645B-9D4C-4E82-83AC-A4EC0D9CB7E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C0D0F-91BB-4B23-BB59-820CA7E8EB1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rds.yahoo.com/S=96062883/K=olympic+rings/v=2/SID=e/l=IVI/*-http://www.cobb.k12.ga.us/~smitha/eeiweb/Olympic%20Web/olympic-rings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rds.yahoo.com/S=96062883/K=olympic+rings/v=2/SID=e/l=IVI/*-http://www.cobb.k12.ga.us/~smitha/eeiweb/Olympic%20Web/olympic-rings.jpg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38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Helpdesk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3840" cy="453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2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is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2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Web based “ticket” database for tracking support call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2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600" spc="-1" strike="noStrike" u="sng">
                <a:solidFill>
                  <a:srgbClr val="000000"/>
                </a:solidFill>
                <a:uFillTx/>
                <a:latin typeface="Arial"/>
              </a:rPr>
              <a:t>official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record of your TAG work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2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earchable and ever growing KPS specific knowledge base when troubleshoot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2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t's the Technology Services support “todo” lis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62920" y="5867280"/>
            <a:ext cx="1666800" cy="67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59436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7315200" y="4876920"/>
            <a:ext cx="304920" cy="457200"/>
          </a:xfrm>
          <a:prstGeom prst="downArrow">
            <a:avLst>
              <a:gd name="adj1" fmla="val 50000"/>
              <a:gd name="adj2" fmla="val 37485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38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Helpdesk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3840" cy="453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2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y use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2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t's the official record of your TAG time (the electronic “TAG Log”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2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aster answers by searching and properly assigning ticke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2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ocumentation trai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952880" y="3733920"/>
            <a:ext cx="1868760" cy="28731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162920" y="5867280"/>
            <a:ext cx="1666800" cy="67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What NOT to put in the Helpdesk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ne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el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thing not computer technology rel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sically, if you wouldn’t call Technology Services about it, don’t put it in the Helpdesk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WS &amp; MUNIS/4Js Issues – Call 7-014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162920" y="5867280"/>
            <a:ext cx="166680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38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Helpdesk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3840" cy="453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2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re is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2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Open your web brows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2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ype: helpdes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102000"/>
              </a:lnSpc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Helpdesk.kalamazoo.k12.mi.u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2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ress: en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 algn="ctr">
              <a:lnSpc>
                <a:spcPct val="102000"/>
              </a:lnSpc>
              <a:spcBef>
                <a:spcPts val="6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162920" y="5867280"/>
            <a:ext cx="1666800" cy="67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229600" cy="60958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286000" y="2362320"/>
            <a:ext cx="152280" cy="228600"/>
          </a:xfrm>
          <a:prstGeom prst="upArrow">
            <a:avLst>
              <a:gd name="adj1" fmla="val 50000"/>
              <a:gd name="adj2" fmla="val 3753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59436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038480" y="5410080"/>
            <a:ext cx="3049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8229600" cy="55627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666880" y="2514600"/>
            <a:ext cx="228600" cy="4572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267080" y="1752480"/>
            <a:ext cx="1447920" cy="60984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229600" cy="6248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5" name=""/>
          <p:cNvSpPr/>
          <p:nvPr/>
        </p:nvSpPr>
        <p:spPr>
          <a:xfrm>
            <a:off x="5181480" y="2133720"/>
            <a:ext cx="533520" cy="228600"/>
          </a:xfrm>
          <a:prstGeom prst="leftArrow">
            <a:avLst>
              <a:gd name="adj1" fmla="val 50000"/>
              <a:gd name="adj2" fmla="val 58346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772400" y="4952880"/>
            <a:ext cx="228600" cy="533520"/>
          </a:xfrm>
          <a:prstGeom prst="downArrow">
            <a:avLst>
              <a:gd name="adj1" fmla="val 50000"/>
              <a:gd name="adj2" fmla="val 58346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676520" y="441972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31T12:12:59Z</dcterms:created>
  <dc:creator>Tony Gettig</dc:creator>
  <dc:description/>
  <dc:language>en-US</dc:language>
  <cp:lastModifiedBy>Barb Smalla</cp:lastModifiedBy>
  <dcterms:modified xsi:type="dcterms:W3CDTF">2006-01-26T17:05:16Z</dcterms:modified>
  <cp:revision>51</cp:revision>
  <dc:subject/>
  <dc:title>Welcome to TAG 2003-2004!</dc:title>
</cp:coreProperties>
</file>